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225-B567-4959-BDAC-A5A32931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A0F-A720-4000-98BC-A4330D6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E70-4AAE-49A9-9A21-9A86D84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7EA-7A70-4EC0-A083-B44C0269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F3B-98A3-43B9-92DB-9373805C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044-84C6-41A7-8A0B-67FC8A8A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10C-728E-47B0-B665-DA610004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CD1-384B-49DB-91F0-5621105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87A-35E8-4E69-B3A4-C53746F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FD8-1663-4F65-BD5E-B9DF5F4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06A-6E4C-4A91-8F39-2F42C00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17A-381A-4E65-BC09-D8B053B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38F-BA1F-446A-8B33-39638A1B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8 de septiembre de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6A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cuchas a los profes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28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the following expresion in a sentence; don’t forget to conjugat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mucho (to study a 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apunt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take class n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tar atenció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to 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car notas (to get 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Repaso Gramatical: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rbos -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verb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es una palabra de 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spañol, los verbos terminan en –AR,--ER o –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In Spanish, all verbs end in –AR, -ER, or –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conjugar los verbos –AR en el presente, remplazamos la terminación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(to conjugate –AR verbs in the present, replace ending 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follows)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ff"/>
                </a:solidFill>
                <a:latin typeface="Arial"/>
              </a:rPr>
              <a:t>-A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Yo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ú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l Ella Ud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sotros-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los Ellas Uds.  -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90% of all Spanish Verbs end in –AR!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3696120" y="37339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3711240" y="411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3694320" y="4567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3735720" y="4948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9"/>
          <p:cNvSpPr/>
          <p:nvPr/>
        </p:nvSpPr>
        <p:spPr>
          <a:xfrm>
            <a:off x="3704760" y="54817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685800"/>
          <a:ext cx="9144000" cy="6013440"/>
        </p:xfrm>
        <a:graphic>
          <a:graphicData uri="http://schemas.openxmlformats.org/drawingml/2006/table">
            <a:tbl>
              <a:tblPr/>
              <a:tblGrid>
                <a:gridCol w="1946160"/>
                <a:gridCol w="1787760"/>
                <a:gridCol w="1752480"/>
                <a:gridCol w="1827360"/>
                <a:gridCol w="1830240"/>
              </a:tblGrid>
              <a:tr h="168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ai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da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 instru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i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wat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epa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o prep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05320" y="2833560"/>
            <a:ext cx="1050840" cy="14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354720" y="2666880"/>
            <a:ext cx="111276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7620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6858000" y="4948200"/>
            <a:ext cx="647640" cy="16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4809960" y="2743200"/>
            <a:ext cx="1209960" cy="149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1487520" cy="154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76320" y="4297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752480" y="41450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m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00400" y="4191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ntal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876920" y="42210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l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324480" y="426708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f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543800" y="42210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zap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876920" y="61261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u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467480" y="55627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orb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2362320" y="8380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ationary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1828800" y="1447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t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600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lo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523880" y="6126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088160" y="5638680"/>
            <a:ext cx="14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apu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05320" y="13716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5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ESENTE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cp:lastPrinted>2014-09-18T17:41:12Z</cp:lastPrinted>
  <dcterms:modified xsi:type="dcterms:W3CDTF">2014-09-18T19:25:38Z</dcterms:modified>
  <cp:revision>15</cp:revision>
  <dc:subject/>
  <dc:title>Me llamo ___________ Clase 6 NH/IL La fecha es el 10 de enero del 2011</dc:title>
</cp:coreProperties>
</file>